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6D3-513D-42F0-A64E-8842C1CD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0E7-8738-4AA3-8A90-F693E5D4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7EF-42D7-409E-BC36-DEC392AA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A53-2480-4A2A-8540-1309253F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A0B-743F-4808-917C-3CF58678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7C3F-8CA9-4F9D-851E-EC631906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D939-AF5A-43ED-9DDC-E711F3E6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0AD-7948-4E8B-AD10-768F4E6F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E82-2FAE-4656-8407-D72AAD77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85A-0371-4294-8E07-7021C54A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4ED-99ED-4444-BE70-547398E6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096-98BE-4C5C-826E-1B50902A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35F1-2865-4675-A2C3-74FF6A182F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7933c"/>
                </a:solidFill>
                <a:latin typeface="Calibri"/>
              </a:rPr>
              <a:t>ПРОГРАММА </a:t>
            </a:r>
            <a:r>
              <a:rPr b="0" lang="en-US" sz="31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0" lang="ru-RU" sz="3100" spc="-1" strike="noStrike">
                <a:solidFill>
                  <a:srgbClr val="77933c"/>
                </a:solidFill>
                <a:latin typeface="Calibri"/>
              </a:rPr>
              <a:t>ПО ОЗДОРОВЛЕНИЮ ОБУЧАЮЩИХСЯ НАЧАЛЬНОЙ ШКОЛЫ</a:t>
            </a:r>
            <a:br>
              <a:rPr sz="3100"/>
            </a:b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«УЧИМСЯ  РАССЛАБЛЯТЬС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95280" y="3886200"/>
            <a:ext cx="377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У сош №5 г. Каш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ликаева Татьяна Борис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2"/>
          <p:cNvSpPr/>
          <p:nvPr/>
        </p:nvSpPr>
        <p:spPr>
          <a:xfrm>
            <a:off x="1547640" y="1168560"/>
            <a:ext cx="6120000" cy="4589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3"/>
          <p:cNvSpPr/>
          <p:nvPr/>
        </p:nvSpPr>
        <p:spPr>
          <a:xfrm flipH="1">
            <a:off x="1476360" y="1141560"/>
            <a:ext cx="6120000" cy="4589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4"/>
          <p:cNvSpPr/>
          <p:nvPr/>
        </p:nvSpPr>
        <p:spPr>
          <a:xfrm>
            <a:off x="144360" y="3429000"/>
            <a:ext cx="8820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54360" y="115920"/>
            <a:ext cx="0" cy="6615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1332000" y="981000"/>
            <a:ext cx="433440" cy="4334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33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7380360" y="907920"/>
            <a:ext cx="433440" cy="4334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4356000" y="6424560"/>
            <a:ext cx="433440" cy="4334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0" y="3213000"/>
            <a:ext cx="433440" cy="4334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0482E-006 L 0.66146 0.66473 E">
                                      <p:cBhvr>
                                        <p:cTn id="47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7.78499E-007 L -0.67726 0.67285 E">
                                      <p:cBhvr>
                                        <p:cTn id="66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3003E-006 L -0.00781 -0.94161 E">
                                      <p:cBhvr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9203E-006 L 0.95677 -3.39203E-006 E">
                                      <p:cBhvr>
                                        <p:cTn id="104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ДИНАМИЧЕСКИЕ ПАУ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D:\ТБ2\школа фото\20 декабря 2010г. 007.jpg"/>
          <p:cNvPicPr/>
          <p:nvPr/>
        </p:nvPicPr>
        <p:blipFill>
          <a:blip r:embed="rId2"/>
          <a:stretch/>
        </p:blipFill>
        <p:spPr>
          <a:xfrm>
            <a:off x="2050920" y="1341360"/>
            <a:ext cx="669132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ИГРЫ НА ПЕРЕМ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D:\ТБ2\школа фото\20 декабря 2010г. 001.jpg"/>
          <p:cNvPicPr/>
          <p:nvPr/>
        </p:nvPicPr>
        <p:blipFill>
          <a:blip r:embed="rId2"/>
          <a:stretch/>
        </p:blipFill>
        <p:spPr>
          <a:xfrm>
            <a:off x="1290600" y="1341360"/>
            <a:ext cx="661356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УРОК ФИЗКУЛЬ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D:\ТБ2\школа фото\осенние забавы 031.jpg"/>
          <p:cNvPicPr/>
          <p:nvPr/>
        </p:nvPicPr>
        <p:blipFill>
          <a:blip r:embed="rId2"/>
          <a:stretch/>
        </p:blipFill>
        <p:spPr>
          <a:xfrm rot="21196800">
            <a:off x="441360" y="1341000"/>
            <a:ext cx="4710240" cy="3532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D:\ТБ2\школа фото\осенние забавы 033.jpg"/>
          <p:cNvPicPr/>
          <p:nvPr/>
        </p:nvPicPr>
        <p:blipFill>
          <a:blip r:embed="rId3"/>
          <a:stretch/>
        </p:blipFill>
        <p:spPr>
          <a:xfrm>
            <a:off x="4643280" y="3675240"/>
            <a:ext cx="424368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ЗАНЯТИЕ САМБ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D:\ТБ2\школа фото\осенние забавы 024.jpg"/>
          <p:cNvPicPr/>
          <p:nvPr/>
        </p:nvPicPr>
        <p:blipFill>
          <a:blip r:embed="rId2"/>
          <a:stretch/>
        </p:blipFill>
        <p:spPr>
          <a:xfrm>
            <a:off x="179280" y="1268280"/>
            <a:ext cx="661356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ВЕСЁЛЫЕ СТАР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Documents and Settings\Admin\Мои документы\Мои рисунки\погуляли\погуляли 018.jpg"/>
          <p:cNvPicPr/>
          <p:nvPr/>
        </p:nvPicPr>
        <p:blipFill>
          <a:blip r:embed="rId2"/>
          <a:stretch/>
        </p:blipFill>
        <p:spPr>
          <a:xfrm>
            <a:off x="108000" y="1268280"/>
            <a:ext cx="4716360" cy="3538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dmin\Мои документы\Мои рисунки\погуляли\погуляли 003.jpg"/>
          <p:cNvPicPr/>
          <p:nvPr/>
        </p:nvPicPr>
        <p:blipFill>
          <a:blip r:embed="rId3"/>
          <a:stretch/>
        </p:blipFill>
        <p:spPr>
          <a:xfrm>
            <a:off x="4782960" y="3429000"/>
            <a:ext cx="436104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79280" y="87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4"/>
          <p:cNvSpPr/>
          <p:nvPr/>
        </p:nvSpPr>
        <p:spPr>
          <a:xfrm>
            <a:off x="6875640" y="2205000"/>
            <a:ext cx="2447640" cy="340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орят она везд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привыкли, что вода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а спутница всег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ю вам я доложи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воды нам не прож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Documents and Settings\Admin\Мои документы\Мои рисунки\м\м 001.jpg"/>
          <p:cNvPicPr/>
          <p:nvPr/>
        </p:nvPicPr>
        <p:blipFill>
          <a:blip r:embed="rId2"/>
          <a:stretch/>
        </p:blipFill>
        <p:spPr>
          <a:xfrm>
            <a:off x="179280" y="1628640"/>
            <a:ext cx="6613560" cy="4961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ЧИСТАЯ ВОДА- ЗАЛОГ  ЗДОРОВ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ПОХОДЫ И ПРОГУЛ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D:\ТБ2\школа фото\осенние забавы 039.jpg"/>
          <p:cNvPicPr/>
          <p:nvPr/>
        </p:nvPicPr>
        <p:blipFill>
          <a:blip r:embed="rId2"/>
          <a:stretch/>
        </p:blipFill>
        <p:spPr>
          <a:xfrm rot="21250200">
            <a:off x="174600" y="1509480"/>
            <a:ext cx="4938840" cy="3703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D:\ТБ2\школа фото\Recoverd_jpg_file(1065).jpg"/>
          <p:cNvPicPr/>
          <p:nvPr/>
        </p:nvPicPr>
        <p:blipFill>
          <a:blip r:embed="rId3"/>
          <a:stretch/>
        </p:blipFill>
        <p:spPr>
          <a:xfrm rot="660000">
            <a:off x="5106600" y="3050640"/>
            <a:ext cx="3747960" cy="32655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1"/>
          <p:cNvSpPr/>
          <p:nvPr/>
        </p:nvSpPr>
        <p:spPr>
          <a:xfrm>
            <a:off x="179280" y="5516640"/>
            <a:ext cx="460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уть-дорогу собирайся,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здоровьем отправляйся!.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Летний оздоровительный лагерь «Солнышк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3342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Игры на свежем воздух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D:\ТБ2\школа фото\20 декабря 2010г. 012.jpg"/>
          <p:cNvPicPr/>
          <p:nvPr/>
        </p:nvPicPr>
        <p:blipFill>
          <a:blip r:embed="rId2"/>
          <a:stretch/>
        </p:blipFill>
        <p:spPr>
          <a:xfrm>
            <a:off x="1763640" y="1484280"/>
            <a:ext cx="661356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108000" y="1482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родная мудрость гласит: «Деньги потерял – ничего не потеря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ремя потерял – много потерял. Здоровье потерял – все потерял.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D:\ТБ2\школа фото\шк 004.jpg"/>
          <p:cNvPicPr/>
          <p:nvPr/>
        </p:nvPicPr>
        <p:blipFill>
          <a:blip r:embed="rId2"/>
          <a:stretch/>
        </p:blipFill>
        <p:spPr>
          <a:xfrm>
            <a:off x="1270080" y="1557360"/>
            <a:ext cx="6613560" cy="4960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НАШ  ЧЕМПИ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179280" y="1600200"/>
            <a:ext cx="43164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да мы здоров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зарядкой дружны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м спорт с физкультур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оздух нужн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D:\ТБ2\школа фото\PICT4639.JPG"/>
          <p:cNvPicPr/>
          <p:nvPr/>
        </p:nvPicPr>
        <p:blipFill>
          <a:blip r:embed="rId2"/>
          <a:stretch/>
        </p:blipFill>
        <p:spPr>
          <a:xfrm>
            <a:off x="392040" y="2971800"/>
            <a:ext cx="3892680" cy="368604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ВИЗИТКА </a:t>
            </a: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4-Б </a:t>
            </a: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КЛАС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Рисунок 3" descr=""/>
          <p:cNvPicPr/>
          <p:nvPr/>
        </p:nvPicPr>
        <p:blipFill>
          <a:blip r:embed="rId3"/>
          <a:stretch/>
        </p:blipFill>
        <p:spPr>
          <a:xfrm>
            <a:off x="4816440" y="1030320"/>
            <a:ext cx="3870360" cy="450864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1"/>
          <p:cNvSpPr/>
          <p:nvPr/>
        </p:nvSpPr>
        <p:spPr>
          <a:xfrm>
            <a:off x="4465800" y="58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оровье своё сбережём с малых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езням , недугам мы скажем-нет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0" y="270828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Здоровье – это бесценный дар природы, оно дается, к сожалению, не навечно, его необходимо беречь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.П.Павл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ИСПОЛЬЗУЕМАЯ 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1.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http://nsportal.ru/bedrina-makpal-agideleevna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2.http//mou65chei-edu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611280" y="1557360"/>
            <a:ext cx="813744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создать условия для сохранения здоровья школьника за период обучения в школе, сформировать у него необходимые знания, умения и навыки по ЗОЖ, научить использовать полученные знания в повседневной жизни, укреплять здоровье детей во время учебного процесса и во время внеуроч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2791080" y="549360"/>
            <a:ext cx="522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611280" y="1916280"/>
            <a:ext cx="756108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культурные минутки, зарядки для глаз, рефлек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паузы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ни здоровья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ижные иг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н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УТРЕННЯЯ ЗАРЯ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ТБ2\школа фото\осенние забавы 022.jpg"/>
          <p:cNvPicPr/>
          <p:nvPr/>
        </p:nvPicPr>
        <p:blipFill>
          <a:blip r:embed="rId2"/>
          <a:stretch/>
        </p:blipFill>
        <p:spPr>
          <a:xfrm>
            <a:off x="0" y="1700280"/>
            <a:ext cx="6613560" cy="4960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6516720" y="765000"/>
            <a:ext cx="26272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ривыкли мы к поряд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ром делаем заряд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на лад идет тогд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абота, и иг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-50760" y="0"/>
            <a:ext cx="9347040" cy="701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3"/>
          <a:stretch/>
        </p:blipFill>
        <p:spPr>
          <a:xfrm>
            <a:off x="-50760" y="0"/>
            <a:ext cx="9347040" cy="701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4"/>
          <a:stretch/>
        </p:blipFill>
        <p:spPr>
          <a:xfrm>
            <a:off x="103320" y="0"/>
            <a:ext cx="9347040" cy="7162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МЕШАЮТ ИЛИ ПОМОГАЮТ НА УРОКЕ ФИЗКУЛЬТМИНУТКИ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4622760" y="1484280"/>
            <a:ext cx="4521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1.Помогают преодолеть сонливость и однообразность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2.Повышают работоспособ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3.Создают хорошее настро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4.Способствуют общ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5.Мешают уро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6.Ограничивают время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Диаграмма 8" descr=""/>
          <p:cNvPicPr/>
          <p:nvPr/>
        </p:nvPicPr>
        <p:blipFill>
          <a:blip r:embed="rId5"/>
          <a:stretch/>
        </p:blipFill>
        <p:spPr>
          <a:xfrm>
            <a:off x="-23760" y="3376440"/>
            <a:ext cx="46371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ЧИСТАЯ ВОДА- ЗАЛОГ  ЗДОРОВ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ТБ2\школа фото\м 001.jpg"/>
          <p:cNvPicPr/>
          <p:nvPr/>
        </p:nvPicPr>
        <p:blipFill>
          <a:blip r:embed="rId2"/>
          <a:stretch/>
        </p:blipFill>
        <p:spPr>
          <a:xfrm>
            <a:off x="1403280" y="1628640"/>
            <a:ext cx="661356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33480" y="-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УПРАЖНЕНИЯ ДЛЯ ГЛ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2"/>
          <p:cNvSpPr/>
          <p:nvPr/>
        </p:nvSpPr>
        <p:spPr>
          <a:xfrm>
            <a:off x="1835280" y="1635120"/>
            <a:ext cx="5041800" cy="504180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100000">
                <a:srgbClr val="fef06a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2195640" y="2019240"/>
            <a:ext cx="4239360" cy="3569760"/>
            <a:chOff x="2195640" y="2019240"/>
            <a:chExt cx="4239360" cy="3569760"/>
          </a:xfrm>
        </p:grpSpPr>
        <p:grpSp>
          <p:nvGrpSpPr>
            <p:cNvPr id="69" name="Group 5"/>
            <p:cNvGrpSpPr/>
            <p:nvPr/>
          </p:nvGrpSpPr>
          <p:grpSpPr>
            <a:xfrm>
              <a:off x="4942800" y="2019240"/>
              <a:ext cx="1492200" cy="1237680"/>
              <a:chOff x="4942800" y="2019240"/>
              <a:chExt cx="1492200" cy="1237680"/>
            </a:xfrm>
          </p:grpSpPr>
          <p:sp>
            <p:nvSpPr>
              <p:cNvPr id="70" name="Oval 6"/>
              <p:cNvSpPr/>
              <p:nvPr/>
            </p:nvSpPr>
            <p:spPr>
              <a:xfrm>
                <a:off x="4942800" y="2311200"/>
                <a:ext cx="863640" cy="94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Oval 7"/>
              <p:cNvSpPr/>
              <p:nvPr/>
            </p:nvSpPr>
            <p:spPr>
              <a:xfrm>
                <a:off x="5160600" y="2569680"/>
                <a:ext cx="398520" cy="4366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Oval 8"/>
              <p:cNvSpPr/>
              <p:nvPr/>
            </p:nvSpPr>
            <p:spPr>
              <a:xfrm>
                <a:off x="5257440" y="2675520"/>
                <a:ext cx="200880" cy="20700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Freeform 9"/>
              <p:cNvSpPr/>
              <p:nvPr/>
            </p:nvSpPr>
            <p:spPr>
              <a:xfrm>
                <a:off x="4942800" y="2019240"/>
                <a:ext cx="941760" cy="218160"/>
              </a:xfrm>
              <a:custGeom>
                <a:avLst/>
                <a:gdLst/>
                <a:ahLst/>
                <a:rect l="l" t="t" r="r" b="b"/>
                <a:pathLst>
                  <a:path w="544" h="136">
                    <a:moveTo>
                      <a:pt x="0" y="136"/>
                    </a:moveTo>
                    <a:cubicBezTo>
                      <a:pt x="90" y="68"/>
                      <a:pt x="181" y="0"/>
                      <a:pt x="272" y="0"/>
                    </a:cubicBezTo>
                    <a:cubicBezTo>
                      <a:pt x="363" y="0"/>
                      <a:pt x="499" y="113"/>
                      <a:pt x="544" y="136"/>
                    </a:cubicBezTo>
                  </a:path>
                </a:pathLst>
              </a:custGeom>
              <a:noFill/>
              <a:ln w="3816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Freeform 10"/>
              <p:cNvSpPr/>
              <p:nvPr/>
            </p:nvSpPr>
            <p:spPr>
              <a:xfrm>
                <a:off x="5728680" y="2529720"/>
                <a:ext cx="390960" cy="6084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Freeform 11"/>
              <p:cNvSpPr/>
              <p:nvPr/>
            </p:nvSpPr>
            <p:spPr>
              <a:xfrm>
                <a:off x="5806440" y="2666160"/>
                <a:ext cx="550440" cy="691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Freeform 12"/>
              <p:cNvSpPr/>
              <p:nvPr/>
            </p:nvSpPr>
            <p:spPr>
              <a:xfrm>
                <a:off x="5806440" y="2788200"/>
                <a:ext cx="628560" cy="817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Group 13"/>
            <p:cNvGrpSpPr/>
            <p:nvPr/>
          </p:nvGrpSpPr>
          <p:grpSpPr>
            <a:xfrm>
              <a:off x="2195640" y="2019240"/>
              <a:ext cx="1492200" cy="1237680"/>
              <a:chOff x="2195640" y="2019240"/>
              <a:chExt cx="1492200" cy="1237680"/>
            </a:xfrm>
          </p:grpSpPr>
          <p:sp>
            <p:nvSpPr>
              <p:cNvPr id="78" name="Oval 14"/>
              <p:cNvSpPr/>
              <p:nvPr/>
            </p:nvSpPr>
            <p:spPr>
              <a:xfrm>
                <a:off x="2824200" y="2311200"/>
                <a:ext cx="863640" cy="94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Oval 15"/>
              <p:cNvSpPr/>
              <p:nvPr/>
            </p:nvSpPr>
            <p:spPr>
              <a:xfrm flipH="1">
                <a:off x="3071520" y="2569680"/>
                <a:ext cx="398160" cy="4366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Oval 16"/>
              <p:cNvSpPr/>
              <p:nvPr/>
            </p:nvSpPr>
            <p:spPr>
              <a:xfrm flipH="1">
                <a:off x="3171960" y="2675520"/>
                <a:ext cx="200880" cy="20700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Freeform 17"/>
              <p:cNvSpPr/>
              <p:nvPr/>
            </p:nvSpPr>
            <p:spPr>
              <a:xfrm flipH="1">
                <a:off x="2745720" y="2019240"/>
                <a:ext cx="941760" cy="218160"/>
              </a:xfrm>
              <a:custGeom>
                <a:avLst/>
                <a:gdLst/>
                <a:ahLst/>
                <a:rect l="l" t="t" r="r" b="b"/>
                <a:pathLst>
                  <a:path w="544" h="136">
                    <a:moveTo>
                      <a:pt x="0" y="136"/>
                    </a:moveTo>
                    <a:cubicBezTo>
                      <a:pt x="90" y="68"/>
                      <a:pt x="181" y="0"/>
                      <a:pt x="272" y="0"/>
                    </a:cubicBezTo>
                    <a:cubicBezTo>
                      <a:pt x="363" y="0"/>
                      <a:pt x="499" y="113"/>
                      <a:pt x="544" y="136"/>
                    </a:cubicBezTo>
                  </a:path>
                </a:pathLst>
              </a:custGeom>
              <a:noFill/>
              <a:ln w="3816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Freeform 18"/>
              <p:cNvSpPr/>
              <p:nvPr/>
            </p:nvSpPr>
            <p:spPr>
              <a:xfrm flipH="1">
                <a:off x="2510640" y="2529720"/>
                <a:ext cx="390960" cy="6084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Freeform 19"/>
              <p:cNvSpPr/>
              <p:nvPr/>
            </p:nvSpPr>
            <p:spPr>
              <a:xfrm flipH="1">
                <a:off x="2273760" y="2666160"/>
                <a:ext cx="550080" cy="691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Freeform 20"/>
              <p:cNvSpPr/>
              <p:nvPr/>
            </p:nvSpPr>
            <p:spPr>
              <a:xfrm flipH="1">
                <a:off x="2195280" y="2788200"/>
                <a:ext cx="628200" cy="817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" name="Oval 21"/>
            <p:cNvSpPr/>
            <p:nvPr/>
          </p:nvSpPr>
          <p:spPr>
            <a:xfrm>
              <a:off x="3608280" y="3768120"/>
              <a:ext cx="1492200" cy="43668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AutoShape 22"/>
            <p:cNvSpPr/>
            <p:nvPr/>
          </p:nvSpPr>
          <p:spPr>
            <a:xfrm rot="16200000">
              <a:off x="3845160" y="3861000"/>
              <a:ext cx="1019880" cy="243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25" y="1049"/>
                    <a:pt x="5850" y="5080"/>
                    <a:pt x="5850" y="10800"/>
                  </a:cubicBezTo>
                  <a:cubicBezTo>
                    <a:pt x="5850" y="16520"/>
                    <a:pt x="13725" y="205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4747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AutoShape 23"/>
            <p:cNvSpPr/>
            <p:nvPr/>
          </p:nvSpPr>
          <p:spPr>
            <a:xfrm rot="18000000">
              <a:off x="5456880" y="4068720"/>
              <a:ext cx="308160" cy="705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80"/>
                    <a:pt x="0" y="10800"/>
                  </a:cubicBezTo>
                  <a:cubicBezTo>
                    <a:pt x="0" y="16520"/>
                    <a:pt x="10800" y="2160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bed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AutoShape 24"/>
            <p:cNvSpPr/>
            <p:nvPr/>
          </p:nvSpPr>
          <p:spPr>
            <a:xfrm rot="14400000">
              <a:off x="2948040" y="4068360"/>
              <a:ext cx="308160" cy="705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80"/>
                    <a:pt x="0" y="10800"/>
                  </a:cubicBezTo>
                  <a:cubicBezTo>
                    <a:pt x="0" y="16520"/>
                    <a:pt x="10800" y="2160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bed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Oval 3"/>
          <p:cNvSpPr/>
          <p:nvPr/>
        </p:nvSpPr>
        <p:spPr>
          <a:xfrm>
            <a:off x="3916440" y="806400"/>
            <a:ext cx="874800" cy="8748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ebf7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2085E-006 C 0.15121 2.52085E-006 0.27517 0.16381 0.27517 0.36585 C 0.27517 0.56719 0.15121 0.73239 4.16667E-006 0.73239 C -0.15191 0.73239 -0.27466 0.56719 -0.27466 0.36585 C -0.27466 0.16381 -0.15191 2.52085E-006 4.16667E-006 2.52085E-006 Z">
                                      <p:cBhvr>
                                        <p:cTn id="1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484360" y="907920"/>
            <a:ext cx="4967280" cy="4966920"/>
            <a:chOff x="2484360" y="907920"/>
            <a:chExt cx="4967280" cy="4966920"/>
          </a:xfrm>
        </p:grpSpPr>
        <p:sp>
          <p:nvSpPr>
            <p:cNvPr id="91" name="Oval 3"/>
            <p:cNvSpPr/>
            <p:nvPr/>
          </p:nvSpPr>
          <p:spPr>
            <a:xfrm rot="16200000">
              <a:off x="5760360" y="22399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4"/>
            <p:cNvSpPr/>
            <p:nvPr/>
          </p:nvSpPr>
          <p:spPr>
            <a:xfrm rot="16200000">
              <a:off x="3168000" y="22399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Oval 5"/>
            <p:cNvSpPr/>
            <p:nvPr/>
          </p:nvSpPr>
          <p:spPr>
            <a:xfrm>
              <a:off x="4500360" y="350028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6"/>
            <p:cNvSpPr/>
            <p:nvPr/>
          </p:nvSpPr>
          <p:spPr>
            <a:xfrm>
              <a:off x="4500360" y="90792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7"/>
            <p:cNvSpPr/>
            <p:nvPr/>
          </p:nvSpPr>
          <p:spPr>
            <a:xfrm>
              <a:off x="4572000" y="2995200"/>
              <a:ext cx="865080" cy="86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Oval 8"/>
          <p:cNvSpPr/>
          <p:nvPr/>
        </p:nvSpPr>
        <p:spPr>
          <a:xfrm>
            <a:off x="4859280" y="83664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path path="rect">
              <a:fillToRect l="50000" t="50000" r="50000" b="50000"/>
            </a:path>
          </a:gra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35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4:29:59Z</dcterms:created>
  <dc:creator>Admin</dc:creator>
  <dc:description/>
  <dc:language>en-US</dc:language>
  <cp:lastModifiedBy>selikaev</cp:lastModifiedBy>
  <dcterms:modified xsi:type="dcterms:W3CDTF">2011-01-29T05:55:16Z</dcterms:modified>
  <cp:revision>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f0000000000010250100207f7000400038000</vt:lpwstr>
  </property>
  <property fmtid="{D5CDD505-2E9C-101B-9397-08002B2CF9AE}" pid="3" name="_MarkAsFinal">
    <vt:bool>1</vt:bool>
  </property>
</Properties>
</file>